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064-044E-44D2-ADBB-67877134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E29-F1CE-48BC-9F28-AE65E164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184-0AD9-4D9E-9AC3-7AFF9F31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6C7-FE2B-4318-80C9-E2F6FF1A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F11E-D8F7-4823-B606-1A577DD3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0725-DF45-439E-899A-3648963D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48F1-250A-4594-9499-D65E26AD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8772-3A05-4FF1-8F91-96C42546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9090-7B37-4BD5-9142-8141E721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674B-5C4E-4799-8209-5C095C77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1A70-C649-4F6D-A38D-A9F92C64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104F-97B6-4742-99D2-7B54AABA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55E0-7122-48D8-BE5A-5BBA399D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1FDA-C50E-47A3-8CAB-7B8526C4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37C6-5D6F-4123-B630-3E637B7C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9F5B-7697-48BF-9AAF-8D7D9F80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A147-34F7-43BB-B898-4E668536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32E-4541-4E0B-BD4E-7ED15AAE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452-0E84-429F-A814-BA11B46C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304-B312-4CBE-93AA-C3A49D43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9CA4-72E2-45B3-8856-B52208BC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F88-EC1B-4EDF-B29D-800DDF74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C4F4-A573-4AE9-9CB5-52C2D053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F61-DC5B-41AF-9CF4-7DC339DF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B849-41A7-45AF-80FF-2FDE6D3F5F56}" type="slidenum">
              <a:rPr b="0" lang="pt-BR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F6E1-7DD8-4917-A34D-451CF32C14BF}" type="slidenum">
              <a:rPr b="0" lang="pt-BR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129440" cy="50403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2661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ÇÕES PREVISTAS EXECUTADAS </a:t>
            </a:r>
            <a:br>
              <a:rPr sz="4000"/>
            </a:b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A EXECUTAR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8900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2565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BRI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trega do vídeo Linux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trega dos vídeos PNUD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trodução à Sala de aula virtual – aula inaugural do curso de 100 hora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07/04 A 15/0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07/04 A 15/0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3/04 a 17/0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AI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ivulgação do curso ATAC I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laboração do Projeto do curso ATAC I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urso ATAC I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ntrega de Ficha de Freqüência e desempenho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laboração do vídeo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04/04 a 08/0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04/04 a 08/0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1/04 a 15/0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8/04 a 29/0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8/04 a 29/0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JUNH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trega do projeto que será apresentado no evento – agost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 Encontro de PSTE: experiências de formação docente “professor formando professor”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9/04 a 29/0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03/0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LGUNS PONTOS PARA REFLETI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QUANTO AO CRONOGRAM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NUD – problemas com relatório de uso da STE no período vespertino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trodução à sala de aula virtual – controvérsias nas orientações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ntrega do projeto de evento – prazos não cumpridos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QUANTO AO QUADRO DE P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anto as PLs livres como as de atividades são nas últimas aulas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ão destinadas 2 aulas para o contra-turno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 aulas do vespertino são mensalmente agendadas pelo Professor da STE, porém a porcentagem de uso é baixa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63520" y="259920"/>
            <a:ext cx="73864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 professor da STE do período vespertino alega que não tem tempo para realização das atividades previstas e auxílio aos professores, porém a porcentagem de uso não ultrapassou 30% até maio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É presenciada uso constante de MSN pessoal e ORKUT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FICA ACORDADO QU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7812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O Quadro de PL do professor da STE de cada mês será elaborado em comum acordo com a coordenação pedagógica e direção da escola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O envio do quadro de PL e relatório será até o 5º dia útil de cada mês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O turno que optar pelas aulas programadas, as mesmas deverão ser encaminhadas ao NTE, no quadro de PLs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Até o 10º dia útil de cada mês o Professor do NTE se reunirá com os professores da STE para discutirem as ações desenvolvidas no mês e as previstas para o mês seguinte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Os planos de aula entregue pelos professores regentes devem estar organizados em pasta, de forma cronológica e de fácil acesso, pois mensalmente o professor do NTE fará visita para conferir os relatórios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73868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Não serão consideradas as aulas registradas sem o plano do professor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Cada plano deve conter no máximo 2 aulas, mais que isso é necessário projeto de ensino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Será elaborado portfólio on-line das atividades desenvolvidas na STE para orientações pedagógicas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Os prazos de atividades previstas, não justificadas e não cumpridas serão registradas em documento próprio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As orientações serão feitas por e.mail ou pessoalmente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Caso o professor da STE seja questionado e não souber orientar os professores, os mesmos se comprometerão em buscar apoio junto ao professor do NTE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ada professor da STE se responsabilizará em fazer a relação dos professores que não utilizaram a STE no 1º semestre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PELO NTE - STE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1º SEMESTRE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OBJETIV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7885080" cy="5761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619280" y="4149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N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92360" y="530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S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12000" y="3645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COTEC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6000" y="1989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ROFESSOR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11280" y="342900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UNOS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4000" y="50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UEM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COMO AVANÇAR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284720" y="2349360"/>
            <a:ext cx="3593880" cy="3403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3238560" cy="2095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84360" y="3429000"/>
            <a:ext cx="3240000" cy="21621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572000" y="115920"/>
            <a:ext cx="3543480" cy="21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1º SEMESTRE</a:t>
            </a:r>
            <a:br>
              <a:rPr sz="4800"/>
            </a:b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6000" y="1653840"/>
            <a:ext cx="35528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037600" y="937800"/>
            <a:ext cx="5212080" cy="5211720"/>
            <a:chOff x="2037600" y="937800"/>
            <a:chExt cx="5212080" cy="5211720"/>
          </a:xfrm>
        </p:grpSpPr>
        <p:sp>
          <p:nvSpPr>
            <p:cNvPr id="200" name="_s77830"/>
            <p:cNvSpPr/>
            <p:nvPr/>
          </p:nvSpPr>
          <p:spPr>
            <a:xfrm>
              <a:off x="2736000" y="1636560"/>
              <a:ext cx="3815640" cy="38145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79af7d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_s77831"/>
            <p:cNvSpPr/>
            <p:nvPr/>
          </p:nvSpPr>
          <p:spPr>
            <a:xfrm rot="7200000">
              <a:off x="2736000" y="1635480"/>
              <a:ext cx="3814560" cy="38156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cc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_s77832"/>
            <p:cNvSpPr/>
            <p:nvPr/>
          </p:nvSpPr>
          <p:spPr>
            <a:xfrm rot="14400000">
              <a:off x="2736360" y="1635840"/>
              <a:ext cx="3814560" cy="38156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c99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_s77833"/>
            <p:cNvSpPr/>
            <p:nvPr/>
          </p:nvSpPr>
          <p:spPr>
            <a:xfrm>
              <a:off x="5438520" y="2167200"/>
              <a:ext cx="1163520" cy="11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TEC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_s77834"/>
            <p:cNvSpPr/>
            <p:nvPr/>
          </p:nvSpPr>
          <p:spPr>
            <a:xfrm>
              <a:off x="4062240" y="4550760"/>
              <a:ext cx="116352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E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_s77835"/>
            <p:cNvSpPr/>
            <p:nvPr/>
          </p:nvSpPr>
          <p:spPr>
            <a:xfrm>
              <a:off x="2685600" y="2167200"/>
              <a:ext cx="1163520" cy="11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TE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2700360" y="6381720"/>
          <a:ext cx="40384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6381720"/>
                    <a:ext cx="40384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FEVEREIRO  - MARÇ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Reunião com os professores das STE e professores multiplicadores do NTE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Visita às escolas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Orientação aos PSTE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evereiro – març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ecutada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evereiro – març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ecutada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evereiro – dezembr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ecutada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360" y="1598760"/>
            <a:ext cx="3879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Acompanhamento das atividades desenvolvidas pelos PSTE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Curso informática básica – Linux ou Windows (S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Projeto Brasil Ponto a Ponto (S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rço a dezembr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rço – abril – mai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 concluído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rço – abri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 concluído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urso Tecnologias na Educação: ensinando e aprendendo com as TIC (N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jetos para I Encontro PSTE (S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bril – outubr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io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 concluído 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f1311"/>
                </a:solidFill>
                <a:latin typeface="Arial"/>
              </a:rPr>
              <a:t>ATAC II – Ambientes Tecnológicos de Aprendizagem Colaborativa e Proinfo integrado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f1311"/>
                </a:solidFill>
                <a:latin typeface="Arial"/>
              </a:rPr>
              <a:t>Acompanhamento das atividades programadas nos projetos de ensino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Junh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io – junho – julh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Arial"/>
              </a:rPr>
              <a:t>PELA STE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ARÇ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f1311"/>
                </a:solidFill>
                <a:latin typeface="Arial"/>
              </a:rPr>
              <a:t>Levantamento dos professores que desejam fazer o curso LINUX e ATAC I</a:t>
            </a:r>
            <a:r>
              <a:rPr b="0" lang="pt-PT" sz="2000" spc="-1" strike="noStrike">
                <a:solidFill>
                  <a:srgbClr val="2f1311"/>
                </a:solidFill>
                <a:latin typeface="Arial"/>
              </a:rPr>
              <a:t>;</a:t>
            </a: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Redação para sugestão no Programa das Nações Unidas para o Desenvolvimento – Brasil Ponto a Ponto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Curso LINUX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09/03 a 13/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concluído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09/03 a 13/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16/03 a 20/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12:47Z</dcterms:created>
  <dc:creator>Windows</dc:creator>
  <dc:description/>
  <dc:language>en-US</dc:language>
  <cp:lastModifiedBy>SEDMS</cp:lastModifiedBy>
  <dcterms:modified xsi:type="dcterms:W3CDTF">2009-07-06T20:18:09Z</dcterms:modified>
  <cp:revision>54</cp:revision>
  <dc:subject/>
  <dc:title>TECNOLOGIAS NA ESCOLA</dc:title>
</cp:coreProperties>
</file>